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media/image11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535-2238-45AD-9481-87E6E457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42E-9D36-407F-BAD4-5A1D4A0A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AED-472F-46F5-8377-CE6F1F78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A22-69D8-46FD-B70D-062EE08E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F34-E1D7-4CD5-B4DF-5C9C4824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C3C-E95F-4860-BA62-7F01741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A77-D604-4304-8660-356BE425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D72-E82E-46A2-B31F-AF0B3B6C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4B8-C968-49D6-8929-CF02A951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776-8814-4DE6-9E60-53D384A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694-1A27-4856-BC4C-4CF08A3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D6B-F7F3-493E-BC0D-CAFB168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A61B-7F76-43A8-9ABD-1A97E399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nonymouse.org/cgi-bin/anon-www.cgi/http://upload.wikimedia.org/wikipedia/commons/2/2b/Pavel_Milukov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anonymouse.org/cgi-bin/anon-www.cgi/http://upload.wikimedia.org/wikipedia/commons/2/2b/Pavel_Milukov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990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Euphemia UCAS"/>
              </a:rPr>
              <a:t>The Lib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18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phemia UCAS"/>
              </a:rPr>
              <a:t>By Clara, Bing Bing, Dili, and</a:t>
            </a:r>
            <a:r>
              <a:rPr b="0" lang="en-US" sz="3200" spc="-1" strike="noStrike">
                <a:solidFill>
                  <a:srgbClr val="000000"/>
                </a:solidFill>
                <a:latin typeface="Euphemia UCA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phemia UCAS"/>
              </a:rPr>
              <a:t>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56386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10280" y="434340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10280" y="2895480"/>
            <a:ext cx="2133720" cy="1481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144792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10280" y="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121932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0" y="259092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0" y="5376960"/>
            <a:ext cx="21337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ff12"/>
                </a:solidFill>
                <a:uFillTx/>
                <a:latin typeface="Euphemia UCAS"/>
              </a:rPr>
              <a:t>The Progressive Party / Bl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berals was also know as the Constitutional Democrats or Party of People’s Freedom (nicknamed Cadets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Euphemia UC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phemia UCAS"/>
              </a:rPr>
              <a:t>The unorganized group had not essentially formed a political party (The Cadets) until 19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al Democratic party (Cadets) </a:t>
            </a:r>
            <a:r>
              <a:rPr b="0" lang="en-US" sz="2400" spc="-1" strike="noStrike">
                <a:solidFill>
                  <a:srgbClr val="ffffff"/>
                </a:solidFill>
                <a:latin typeface="Euphemia UCAS"/>
              </a:rPr>
              <a:t>was based on universal suff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15, the Progressive Party combined with the Cadet Party, which was named the Progressive Bl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96000" y="5157720"/>
            <a:ext cx="244800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2448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a8ef8"/>
                </a:solidFill>
                <a:uFillTx/>
                <a:latin typeface="Arial"/>
              </a:rPr>
              <a:t>Foll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 party was consisted of the middle and educated classes; which included teachers, doctors, lawyers, and some industri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also a few members of the gentry (noble class)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48440" y="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aul Nikolayevich Milyuko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Euphemia UC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phemia UCAS"/>
              </a:rPr>
              <a:t>Paul Milyukov, a university lecturer, took a active part in the formation of the constitutional democratic party. He was the founder and the leader of the constitutional democratic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Image:Pavel Milu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86560" y="5013360"/>
            <a:ext cx="1657440" cy="184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Image:Pavel Milukov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657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cc"/>
                </a:solidFill>
                <a:uFillTx/>
                <a:latin typeface="Euphemia UCAS"/>
              </a:rPr>
              <a:t>A.I Konavo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Euphemia UC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phemia UCAS"/>
              </a:rPr>
              <a:t>He was a trade and industry minister and founded the progressive party in 19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Euphemia UC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phemia UCAS"/>
              </a:rPr>
              <a:t>He was also a part of the provisional government which was overthrown in the Russian Revolu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ugust 1915 he helped to organize the Progressive Bl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02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ff"/>
                </a:solidFill>
                <a:uFillTx/>
                <a:latin typeface="Arial"/>
              </a:rPr>
              <a:t>Goals/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main goal was to establish civil rights for all classes (freedom of speech, freedom of worship and con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elections and a parliament to gover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sar to be a monarchy figure with no re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mocratic and capitalistic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120" y="1986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438280" cy="176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656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ccff"/>
                </a:solidFill>
                <a:uFillTx/>
                <a:latin typeface="Arial"/>
              </a:rPr>
              <a:t>Tac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ing articles and books calling f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75520" y="5384880"/>
            <a:ext cx="1968480" cy="1473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2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ff"/>
                </a:solidFill>
                <a:uFillTx/>
                <a:latin typeface="Arial"/>
              </a:rPr>
              <a:t>FAMOUS QU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ulf between us and the government has become impassible. While the Duma insists that’s at home we must be organized for a successful struggle (against Germany), the government….deliberately prefers chaos and disorganization. Is this stupidity or treason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Milyukov speaking to the Duma on November 1, 19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ff"/>
                </a:solidFill>
                <a:uFillTx/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emayzine.com/lectures/russianrev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1911encyclopedia.org/Paul_Nikolayevich_Milyu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1911encyclopedia.org/Paul_Nikolayevich_Milyu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06:01:13Z</dcterms:created>
  <dc:creator>Office 2004 Test Drive User</dc:creator>
  <dc:description/>
  <dc:language>en-US</dc:language>
  <cp:lastModifiedBy>Office 2004 Test Drive User</cp:lastModifiedBy>
  <dcterms:modified xsi:type="dcterms:W3CDTF">2007-09-14T05:28:47Z</dcterms:modified>
  <cp:revision>10</cp:revision>
  <dc:subject/>
  <dc:title>The Liberals</dc:title>
</cp:coreProperties>
</file>